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3BF-426C-4F08-9A9E-325F632C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4C1-1B9D-48B7-9200-A70B29D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9E9-A2A4-4C44-A970-24ADA09A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DC3-267D-4EFE-AAF7-087D540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BC9-966A-49B8-BDDF-BF4B25F0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6D4-262C-4636-9128-6443540F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3A1-CB84-4F70-ACDA-96CFCB62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87B-7C9F-48B6-9FBF-EF7E7ABD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388-5F88-4CF9-9EE9-472F18A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5DE-8004-4439-BBE4-2A53E80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D3E-7D53-4940-85FE-CBE6EE9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72A-25AC-43D0-8695-5F01B6D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DD5A-8960-45DE-A408-ACE1D77BBE6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 Sláva Pánu Bo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, Pánu Bohu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asenia blahú zv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m novú nádej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e mu vzdajme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i človek pre never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rokom sa hriechu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Božej plnú mier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nám uká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, Kristovi buď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u dal zmysel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ľovského vzdal sa pr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al smrti trest z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ás znášal úzkosť, ties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skom kríži 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ú vložil do sŕdc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, náš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, Záchrancovi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ohol smrť, z hrobu vstal.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ech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znie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elý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veto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práva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a vráti ak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tých, čo sú pripr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ženejšej správy niet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ádnuť bude mier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 Boh tento sv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28:53Z</dcterms:modified>
  <cp:revision>22</cp:revision>
  <dc:subject/>
  <dc:title>Je veľký náš Pán, on slávy je Kráľ Nech do všetkých strán  spev vrúcnych znie chvál.</dc:title>
</cp:coreProperties>
</file>